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53E6-A4BE-475D-9235-514E5160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053-B86C-4D7E-A560-C58731DA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AE80-5080-43A4-8121-5608F84F0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B71B-4668-449E-BFBC-A54D948D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3917-991C-437A-AD20-F57869ED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EB27-A466-4EE4-90DE-66E0A5A5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AC54-1D48-41FC-B2FF-A65526E3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2295-83FD-4F19-9A54-06FFAECF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9F76-FB7B-4F46-A070-9F40BB95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3772-2EA9-4027-B3BE-8FA3FA55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02D0-D6CC-403F-A543-5857F6B4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7E79-0747-4EAF-A57B-D7684B96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D519-C3B6-4529-9DE6-9FF4BF61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4981-12F5-4006-813D-B4DC0398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D02C-FF5C-47D3-93E2-8C3B008F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7BB4-77CA-4DE5-97A4-1E3A8D3B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DA89-2E24-42C0-8180-CFC90450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46F5A-F48D-4043-8170-8B872FCD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D1A9F-2DE5-40EC-BE0F-85CFE69F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58446-6BC9-47A4-9938-5E73BABD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DC18C-D0B9-49ED-8B46-8B7C4E8F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6C47C-0B16-430F-89C8-1A75361A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7188-125E-49E8-8AD7-329E6DE9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ADD0F-A470-4A61-A5BA-1495B7E9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B19D5-AC88-4140-83AC-966003AC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7A18B-C95C-480C-9F59-70B67486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AE251-AE23-4C43-86B5-A9A23483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C8D74-CC15-4D46-BDF4-F03D90DF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69747-5A91-4BFA-8341-DE47805A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ED15A-1CC7-4C62-8152-AB99F7B5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A0CBE-7F91-4F3F-ABBA-E88C648E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16CA0-2E82-419C-A63B-E0DE34F4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1DB74-B0A9-434A-BE12-2F9A766F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C845-5823-4BBF-9435-A8E17B1F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9AAE5-AF4D-4235-96ED-417F5F53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A4874-62DB-46B6-B572-B1E60DEE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BB96F-BC14-4A5C-8226-34A592EE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63B79-4C81-4CC6-8579-E8768A63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19D58-8BB9-4D85-B62C-C2534404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7537D-C8DD-4EC6-8C7F-4855FEE3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58C6E-2F36-4B43-8F76-F71CC09A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04441-C180-4608-9B4D-8D953664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E489D-C717-45BC-84C1-55F8434C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3490D-BBC5-4C6E-B54A-226F8495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5297-5214-4345-BCC6-0B5133C7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61D64-5E8F-4E9B-BC2B-634EDB9D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4B792-87E8-406E-9AEB-DF001A71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17368-4481-43EC-A0AD-1CE65C2A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44510-9DC7-4222-9DC8-30EC0DF4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CCD64-77B7-467D-9A0D-EB69C070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4D84D-C4D2-4885-87DB-7281EC21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BF3AD-806A-42AE-BDB4-E1ACFD1B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CFCE1-3FF0-4F0D-97F0-299A09A6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B8AA9-95C5-4188-9D19-E76B8F8A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2DCF5-97BE-4071-9149-52F61525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82DC-08A7-466D-ABBD-FD00A4D9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19C7C-1392-4C90-A9C5-743A775A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D54B-B268-4DD5-9598-20AD5090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B485-6CD2-45B4-8CDE-C847F59C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F6DB-F74E-4BEE-82E8-0EB66066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86F6-FE47-4878-99D7-D3441E5DFDCB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CDA7-9532-4B15-B25C-408AE27EAA09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F6F7-2027-491C-AF30-E9CD5C81B5E7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F53F-02C2-4B20-B678-902BEA7D65EE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A8E7-A35B-4E7A-83C0-E986C7B5FED1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Español 2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apítulo 3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pic>
        <p:nvPicPr>
          <p:cNvPr id="238" name="Content Placeholder 2" descr=""/>
          <p:cNvPicPr/>
          <p:nvPr/>
        </p:nvPicPr>
        <p:blipFill>
          <a:blip r:embed="rId2"/>
          <a:stretch/>
        </p:blipFill>
        <p:spPr>
          <a:xfrm>
            <a:off x="414360" y="1554120"/>
            <a:ext cx="729144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Uds.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Nosotr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Dar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é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e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Ir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aya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ay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Ser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a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Haber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ya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y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Estar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sté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ste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Saber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pa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p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30492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andatos – means comman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y are used to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- get someone’s atten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2- to issue invitati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3- give directi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4- give warning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5- give ORDERS! (not food!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ú (+)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ú (-)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U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Uds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Nosotro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negative forms of Ud., Uds., and nosotros don’t have a special formula. Just add “NO” in front of it.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249120" y="317520"/>
            <a:ext cx="766296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ú +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o to the él/ella/ud form of the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erb in the present ten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ú -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o to the YO form present tense,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rop the O, add opposite vowel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+ 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d.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o to the YO from present tense,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rop the O, add opposite vow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ds.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o to the YO form present tense,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rop the O, add opposite vowel,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+ 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osotros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o to the YO form present tense,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rop the O, add opposite vowel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+ MOS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(no stem-change!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29" name="Content Placeholder 2" descr=""/>
          <p:cNvPicPr/>
          <p:nvPr/>
        </p:nvPicPr>
        <p:blipFill>
          <a:blip r:embed="rId2"/>
          <a:stretch/>
        </p:blipFill>
        <p:spPr>
          <a:xfrm>
            <a:off x="450720" y="1530360"/>
            <a:ext cx="733428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MER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JUGA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ú +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e!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uega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ú -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o comas!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o juegues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d.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a!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uegue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ds.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an!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ueguen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osotro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amos!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uguemos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en conjugating REFLEXIVE VERBS, attach the pronoun to the end of the verb if it is a POSITIVE comman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ávate las manos!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Wash your hands!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en conjugating REFLEXIVE VERBS, the pronoun goes in front of the verb when it is a NEGATIVE comman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o se lave las manos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Don’t (you) wash your hands!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TEM CHANGES DO OCCUR! 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in the nosotros form though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Dormir-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uerme, no duermas!, duerma, duerma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unny spelling ending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ar--- g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r--- q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zar--- 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These occur in ALL of the forms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Buscar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usca, no busques, busque, busquen, busque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hink  TV DISH P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ener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e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enir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ecir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r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alir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cer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z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ner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r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é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Notice how they are ALL 2-3 letters long. .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166 -0.00023 L -0.44167 -0.00023 E">
                                      <p:cBhvr>
                                        <p:cTn id="282" dur="20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9:23:12Z</dcterms:created>
  <dc:creator>Maple Lake</dc:creator>
  <dc:description/>
  <dc:language>en-US</dc:language>
  <cp:lastModifiedBy>Maple Lake</cp:lastModifiedBy>
  <dcterms:modified xsi:type="dcterms:W3CDTF">2008-11-06T13:40:23Z</dcterms:modified>
  <cp:revision>6</cp:revision>
  <dc:subject/>
  <dc:title>Los Mandatos!</dc:title>
</cp:coreProperties>
</file>